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D01-EACC-421C-B331-30F246B0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5F9-0A06-49BA-B9B7-BFD30B88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3FD-21DA-49BA-9B0C-A170E243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288-3845-4C56-BF62-FAEF8171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EF59-8E7F-4D7E-9031-CC64C19C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3B95-4851-4AD9-B622-966B826B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8115-7258-4197-B467-CAF29C50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563B-4E19-4B7F-A45A-C8A64953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01B8-537E-4683-9BAC-F021CF74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0F50-5052-44F5-8C47-BF0F6FAB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1B3C-53E2-4DD6-A610-AE13DDE8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219-F060-41B9-9FED-B64061FD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E898-6115-40FB-AFDB-17E76FAF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D997-502B-4853-825D-675E3EF8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946E-0D8F-45E5-99A4-BF0DF2BE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B76E-F481-4059-A3C8-6ED0A6AA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CD85-D698-4E66-84C2-325440EE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B38F-F096-4252-AF1B-48841714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E8AB-5A13-436D-80AF-20DC8953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AE4D-8D85-492F-A255-4F63E256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50A65-69E7-4EA0-84A2-BAAED20B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0594-1289-456B-9A6D-73213FA4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1D3-F37A-46D2-99B9-0F15DCD9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A59D-2184-427B-8B2A-FF975D3C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7AB7-0DD4-44BD-A596-0D19CB79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1403-2E1E-4A11-AF81-C72C897F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4C69-D918-44F2-B10D-E76133EA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654AD-A25B-42F2-BC00-864865A9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1341-9667-4789-976B-28E8076E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99B1-D772-4474-A883-EFB497C1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BBF8-EFB7-4B9D-B9A4-71EE9183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4E648-B90D-48F7-BF04-64102069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0A9E-039A-479B-B490-4147A500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939-7474-4014-9BF7-D9A0172C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EAA8-47F7-424F-AD2B-832F4B6A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DC2B3-4818-4D24-9410-23F7116D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A65E4-55A3-41E2-BD56-4CE06DD5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6686-865B-4A11-87F1-70599E1B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F40E5-EC74-4120-8B50-E8B9157D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9A99-8F9E-4B0B-B2AD-129FA0B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1C145-5142-4483-AE61-53A68531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063C-F692-407F-9C60-5D5BF263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E622D-3F7B-4D7A-8EB5-9EA1B5DC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E32-A9F9-41D0-A6FC-E692D3B8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2F7-DBDA-4899-8420-FFE70F64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BAB-36D1-4133-B498-80523F9D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7D1-8FC7-4357-A1B0-464B968D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FE2-5CB5-4296-A5C5-AD2AAF19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41A0-E55F-495C-A512-78316D723C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AF34-28F2-41ED-905B-3DE4C96E45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42C7-6301-44A1-8284-EB5D1B004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4267-BD2D-4D0E-8D06-77CB23EDF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vm.usu.edu/en/nav/vlibrary.html" TargetMode="External"/><Relationship Id="rId3" Type="http://schemas.openxmlformats.org/officeDocument/2006/relationships/hyperlink" Target="http://nlvm.usu.edu/en/nav/vlibrary.html" TargetMode="External"/><Relationship Id="rId4" Type="http://schemas.openxmlformats.org/officeDocument/2006/relationships/hyperlink" Target="http://nlvm.usu.edu/en/nav/vlibrary.html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enter.k12.mo.us/Edtech/everydaymath.htm" TargetMode="External"/><Relationship Id="rId3" Type="http://schemas.openxmlformats.org/officeDocument/2006/relationships/hyperlink" Target="http://illuminations.nctm.org/Activities.aspx?grade=1&amp;grade=2&amp;grade=3&amp;grade=4" TargetMode="External"/><Relationship Id="rId4" Type="http://schemas.openxmlformats.org/officeDocument/2006/relationships/hyperlink" Target="http://www.shodor.org/interactivate/" TargetMode="External"/><Relationship Id="rId5" Type="http://schemas.openxmlformats.org/officeDocument/2006/relationships/hyperlink" Target="http://www.shodor.org/interactivate/" TargetMode="External"/><Relationship Id="rId6" Type="http://schemas.openxmlformats.org/officeDocument/2006/relationships/hyperlink" Target="http://www.shodor.org/interactivate/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bistar.4teachers.org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chool.discovery.com/schrockguide/assess.html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uzzlemaker.school.discovery.com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Tuesday, March 13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eb 2.0 and Educat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tud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uthorship / particip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ou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llaborativ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communities of lear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courages student-centered,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nstructivi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hands-on,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informa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learn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Legitimiz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tudents as producers /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67000" cy="53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52120" y="152352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ers students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option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ntro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v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motes PBL’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blem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ject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assion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67000" cy="539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47712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Blog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student auth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ik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collaborative wor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Podcast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audio / vide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Media-shar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tagged photo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vi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Flickr &amp; 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ocial Network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shar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MySpace &amp; Pic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R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aggregator; informa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Virtual world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igit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Second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Social Annotatio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shar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es on web-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Di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Virtual Workspac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interacti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haring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Vye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Virtual Math Manipulative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3857760" cy="291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904760" y="22856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be an effective </a:t>
            </a: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assistiv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technolog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milar to gaming; inte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ous levels, strands,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inesthetic learners benefit grea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057400" y="2133720"/>
            <a:ext cx="358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ational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f 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nipu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st known, most ex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5867280" y="2590920"/>
            <a:ext cx="2943360" cy="202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- "Did You Know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web 2.0? – the read/writ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2.0 in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based Math Manipu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ach to assessment - Rubric builders on-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Given the changing nature of information, can teachers be effective educators without changing too?</a:t>
            </a:r>
            <a:br>
              <a:rPr sz="2400"/>
            </a:b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0" y="2514600"/>
            <a:ext cx="6324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veryday Math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CTM Illu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odo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terac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133720" y="99036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Rubric-based Assessment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629400" y="3733920"/>
            <a:ext cx="143820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752480" y="2286000"/>
            <a:ext cx="701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formance-based (authentic)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ves away from traditional assessment means (tes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752120" y="175212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acher and / or student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acher and / or peer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st when known up-front of activity – allows students to tail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-line tool for teachers (and students) to develop rubrics for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257800" y="3809880"/>
            <a:ext cx="3600360" cy="233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scov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dy-made rubrics, web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easily ada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181480" y="2514600"/>
            <a:ext cx="3276720" cy="203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uzzlemaker…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zzl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tes many puzz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uzzl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6553440" cy="167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it possible to be a good teacher without using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a teacher serve his/her students in the best way possible without using technology, or do the realities of today’s student demand that teachers accept and utilize technology in their tea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 we simply expecting too much from our teachers and our student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hat is…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5638680" cy="406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ichardson, Pages 1-15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arlick, Pages 20 - 33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504960" y="2742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Web 2.0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225200" y="39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52480" y="20570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eb 1.0”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web-based services that was primarily read-only b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nowledge /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acce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key to web pub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e-wa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52480" y="20570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econd genera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web-ba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phasis on on-line sharing and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2.0”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hints at improved or upgrade to original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828440" y="23623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eb 2.0”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“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Read – writ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 web-based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ess for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har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/ two-wa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904760" y="23623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Every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be an 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ti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changing global economi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Participator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/ democra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3-13T18:13:40Z</dcterms:modified>
  <cp:revision>39</cp:revision>
  <dc:subject/>
  <dc:title>Welcome to  ED3862</dc:title>
</cp:coreProperties>
</file>